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0F3C-B4F7-4D9E-B0E4-75724359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DDE1-317C-4EDE-863E-C714F58D1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748-51E8-4437-A56C-0A21499C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B5E0-05CC-4FF2-9BA7-479077DB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948D-DACA-40D9-87FF-BABA937EE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2199-89CD-4447-94DB-7CB97DFBE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AE92-4F2B-421F-B959-933D2D7A8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38F9-5689-4300-BCEB-549625EDB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9C0B-47E0-474B-A883-7CA684611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5F77-8263-4316-9506-753444F9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12D-50B1-454E-B3EE-5D8C1EEB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B42D-215F-46EE-93DB-C88122BED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0FF4-9AFF-4F07-BCF3-3C9B5A4BE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487-5012-47AD-92D4-976BD338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89B8-CF8D-4A1D-A12E-45A321010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2445-30B0-43D3-93E6-4F5E368D9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94B-839B-4455-9FB9-7D443C987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664A-3EC6-489E-A9BC-06A39D6B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A65C-2AB9-4DBE-989D-312A5618D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01C3-C3FD-4090-9DAC-C525F16DF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63A-24D7-484D-A65A-732394FDE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8E0-DD49-4D14-B6BA-3E4D2AE3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1345-9A21-4854-B4B3-66173B4B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9FC-D192-4BD8-A7D0-CD9D92D9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41C-0AED-4AFC-B68C-4A5A99DD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209-C632-4E51-B242-3519BDE7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10A-80CB-4A6B-A03F-A38F9A23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7D7-9126-4A02-B1B7-A853D922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B87-1562-4781-B04B-3FADEEA2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35C-B36C-483F-BA5D-712D1FA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4A1-C5D9-4C68-8EED-0884402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C42-2160-4AF7-A23B-757A30FC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83F-72E0-4984-93A2-D021097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FA2-DEBE-4D1B-8019-0C730B0B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FF2-F383-4736-ADDC-AB74E67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C6FB-EEA6-492F-914F-FD18FD4DD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A:\g1logo.gif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333360 h 1600200"/>
              <a:gd name="textAreaBottom" fmla="*/ 1266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ue Nielsen</cp:lastModifiedBy>
  <dcterms:modified xsi:type="dcterms:W3CDTF">2010-02-08T02:00:14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